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0.jpeg" ContentType="image/jpeg"/>
  <Override PartName="/ppt/media/image5.png" ContentType="image/png"/>
  <Override PartName="/ppt/media/image16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9E85E-D6DC-4D24-A7E2-B5C075848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C895F-E9E6-4806-8D8B-01B078E47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82CDB-237F-4383-9D5A-E65849583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C19F5-E2B5-4DE3-A4B3-E5DF8CB02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06C5D-12B9-43B9-B08A-C4DA61A7A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56A45-5D1B-44A2-AF6C-F4A8EAA59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D5794-D04F-430D-905E-52C59D441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940F1-BF91-4A6F-ACF4-B431646C0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9C4D5-AFD6-4779-9FD7-E932373E9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52B2D-5BBA-4E40-852B-5C1488BD2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6F200-DF3F-4322-BDCC-9A5E9665F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00E5E-5EC6-44AC-BDF2-1EC8EAD2D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09AE2-2B73-49E4-BDBD-CD643E88F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C8C3C-D5E1-4D30-AD5B-1BAD0B025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EA519-38B4-46DF-A3DB-29FEB1CD0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A798F-E478-4788-A879-F1767552F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BD3B5-B081-498F-8A40-68E45C56F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C10A1-4C78-469B-BF7F-388E5239A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6D6D1-2C04-4E4F-80A9-6B04315CE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7A62A-E5A1-44E5-AE11-A1201CB15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DBA10-ADF3-4DB8-8AD6-79B952B95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7BF83-E1AC-43AE-A0FB-51E9E4287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37860-B7B8-4441-AFC3-799B8CB31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25A03-9E17-4E6A-A163-D7F80D6B0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DA56B-4FD6-453A-B391-14497CCC6615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17A3F-31A1-4FFD-B211-4182E0308D02}" type="slidenum"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Arial"/>
              </a:rPr>
              <a:t>Duodenum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333000"/>
            <a:ext cx="8229600" cy="23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99"/>
                </a:solidFill>
                <a:latin typeface="Arial"/>
              </a:rPr>
              <a:t>Posterio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ft psoas major, left gonadal and left renal vessel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99"/>
                </a:solidFill>
                <a:latin typeface="Arial"/>
              </a:rPr>
              <a:t>Medial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ad of pancreas and aort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99"/>
                </a:solidFill>
                <a:latin typeface="Arial"/>
              </a:rPr>
              <a:t>Lateral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Lt Kidne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6" name="Picture 4" descr=""/>
          <p:cNvPicPr/>
          <p:nvPr/>
        </p:nvPicPr>
        <p:blipFill>
          <a:blip r:embed="rId1"/>
          <a:stretch/>
        </p:blipFill>
        <p:spPr>
          <a:xfrm>
            <a:off x="971640" y="2852640"/>
            <a:ext cx="720072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23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Arterial supply of the duodenum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 Supra-duodenal artery: from the hepatic artery proper (coeliac trunk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. Superior pancreatico-duodenal artery: from gastro-duodenal (coeliac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. Inferior pancreatico-duodenal artery: from superior mesenteric arter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8" name="Picture 19" descr=""/>
          <p:cNvPicPr/>
          <p:nvPr/>
        </p:nvPicPr>
        <p:blipFill>
          <a:blip r:embed="rId1"/>
          <a:stretch/>
        </p:blipFill>
        <p:spPr>
          <a:xfrm>
            <a:off x="900000" y="2997360"/>
            <a:ext cx="7417080" cy="36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40" name="Picture 13" descr=""/>
          <p:cNvPicPr/>
          <p:nvPr/>
        </p:nvPicPr>
        <p:blipFill>
          <a:blip r:embed="rId1"/>
          <a:stretch/>
        </p:blipFill>
        <p:spPr>
          <a:xfrm>
            <a:off x="611280" y="1700280"/>
            <a:ext cx="8137440" cy="492264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marL="838080" indent="-838080" algn="ctr">
              <a:buClr>
                <a:srgbClr val="ffff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OELIAC TRUNK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40384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cc00"/>
                </a:solidFill>
                <a:uFillTx/>
                <a:latin typeface="Arial"/>
              </a:rPr>
              <a:t>Origi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ront of abdominal aorta ,upper border of L1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cc00"/>
                </a:solidFill>
                <a:uFillTx/>
                <a:latin typeface="Arial"/>
              </a:rPr>
              <a:t>Cours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hort trunk passes horizontally between two crura of diaphrag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4" name="Picture 6" descr="Gray532"/>
          <p:cNvPicPr/>
          <p:nvPr/>
        </p:nvPicPr>
        <p:blipFill>
          <a:blip r:embed="rId1"/>
          <a:stretch/>
        </p:blipFill>
        <p:spPr>
          <a:xfrm>
            <a:off x="4648320" y="1784520"/>
            <a:ext cx="4038480" cy="415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78920" y="259920"/>
            <a:ext cx="331308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66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cc00"/>
                </a:solidFill>
                <a:uFillTx/>
                <a:latin typeface="Arial"/>
              </a:rPr>
              <a:t>Regions supplied by it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it supplies the foregu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66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cc00"/>
                </a:solidFill>
                <a:uFillTx/>
                <a:latin typeface="Arial"/>
              </a:rPr>
              <a:t>Branch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Main branches ar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66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Left gastric arte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66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Hepatic arte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66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plenic arte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7" name="Picture 4" descr="AB012"/>
          <p:cNvPicPr/>
          <p:nvPr/>
        </p:nvPicPr>
        <p:blipFill>
          <a:blip r:embed="rId1"/>
          <a:stretch/>
        </p:blipFill>
        <p:spPr>
          <a:xfrm>
            <a:off x="3635280" y="333360"/>
            <a:ext cx="5184720" cy="612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marL="762120"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Branches of coeliac trunk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43308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-812880">
              <a:lnSpc>
                <a:spcPct val="90000"/>
              </a:lnSpc>
              <a:spcBef>
                <a:spcPts val="799"/>
              </a:spcBef>
              <a:buClr>
                <a:srgbClr val="ff9933"/>
              </a:buClr>
              <a:buSzPct val="85000"/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3300"/>
                </a:solidFill>
                <a:uFillTx/>
                <a:latin typeface="Arial"/>
              </a:rPr>
              <a:t>Left gastric artery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812880" indent="-812880">
              <a:lnSpc>
                <a:spcPct val="90000"/>
              </a:lnSpc>
              <a:spcBef>
                <a:spcPts val="700"/>
              </a:spcBef>
              <a:buClr>
                <a:srgbClr val="ff9933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cc00"/>
                </a:solidFill>
                <a:uFillTx/>
                <a:latin typeface="Arial"/>
              </a:rPr>
              <a:t>Cours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upward, to left till diaphragm ,curves down along lesser curvature ,between layers of lesser omentum ,then anastomoses with Rt gastric arte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0" name="Picture 4" descr="celiac-trunk-its_~GD110003"/>
          <p:cNvPicPr/>
          <p:nvPr/>
        </p:nvPicPr>
        <p:blipFill>
          <a:blip r:embed="rId1"/>
          <a:stretch/>
        </p:blipFill>
        <p:spPr>
          <a:xfrm>
            <a:off x="4788000" y="2205000"/>
            <a:ext cx="4066920" cy="424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309744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99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cc00"/>
                </a:solidFill>
                <a:uFillTx/>
                <a:latin typeface="Arial"/>
              </a:rPr>
              <a:t>Branch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9933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Oesophageal branch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9933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Gastric branch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3" name="Picture 4" descr="celiactrunk"/>
          <p:cNvPicPr/>
          <p:nvPr/>
        </p:nvPicPr>
        <p:blipFill>
          <a:blip r:embed="rId1"/>
          <a:stretch/>
        </p:blipFill>
        <p:spPr>
          <a:xfrm>
            <a:off x="3348000" y="1413000"/>
            <a:ext cx="5340240" cy="518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epatic arter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0" y="1268280"/>
            <a:ext cx="478800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627120" indent="-627120">
              <a:spcBef>
                <a:spcPts val="799"/>
              </a:spcBef>
              <a:buClr>
                <a:srgbClr val="ff66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cc00"/>
                </a:solidFill>
                <a:uFillTx/>
                <a:latin typeface="Arial"/>
              </a:rPr>
              <a:t>Branch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27120" indent="-627120">
              <a:spcBef>
                <a:spcPts val="700"/>
              </a:spcBef>
              <a:buClr>
                <a:srgbClr val="ff66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Right gastric arte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27120" indent="-627120">
              <a:spcBef>
                <a:spcPts val="700"/>
              </a:spcBef>
              <a:buClr>
                <a:srgbClr val="ff66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upra-duodenal artery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27120" indent="-627120">
              <a:spcBef>
                <a:spcPts val="700"/>
              </a:spcBef>
              <a:buClr>
                <a:srgbClr val="ff66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Gastroduodenal arte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3160" indent="-548640">
              <a:spcBef>
                <a:spcPts val="601"/>
              </a:spcBef>
              <a:buClr>
                <a:srgbClr val="ffcc00"/>
              </a:buClr>
              <a:buSzPct val="75000"/>
              <a:buFont typeface="Arial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Right gastroepiploic arter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3160" indent="-548640">
              <a:spcBef>
                <a:spcPts val="601"/>
              </a:spcBef>
              <a:buClr>
                <a:srgbClr val="ffcc00"/>
              </a:buClr>
              <a:buSzPct val="75000"/>
              <a:buFont typeface="Arial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Superior pancreaticoduodenal arter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27120" indent="-627120">
              <a:spcBef>
                <a:spcPts val="700"/>
              </a:spcBef>
              <a:buClr>
                <a:srgbClr val="ff66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Right hepatic artery (cystic a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27120" indent="-627120">
              <a:spcBef>
                <a:spcPts val="700"/>
              </a:spcBef>
              <a:buClr>
                <a:srgbClr val="ff66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Left hepatic arte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27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6" name="Picture 4" descr="celiactrunk"/>
          <p:cNvPicPr/>
          <p:nvPr/>
        </p:nvPicPr>
        <p:blipFill>
          <a:blip r:embed="rId1"/>
          <a:stretch/>
        </p:blipFill>
        <p:spPr>
          <a:xfrm>
            <a:off x="4643280" y="1700280"/>
            <a:ext cx="4500720" cy="482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435880" cy="908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ff99"/>
                </a:solidFill>
                <a:latin typeface="Arial"/>
              </a:rPr>
              <a:t>3</a:t>
            </a:r>
            <a:r>
              <a:rPr b="0" lang="en-US" sz="4400" spc="-1" strike="noStrike">
                <a:solidFill>
                  <a:srgbClr val="99ff99"/>
                </a:solidFill>
                <a:latin typeface="Arial"/>
              </a:rPr>
              <a:t>- </a:t>
            </a:r>
            <a:r>
              <a:rPr b="0" lang="en-US" sz="4400" spc="-1" strike="noStrike">
                <a:solidFill>
                  <a:srgbClr val="99ff99"/>
                </a:solidFill>
                <a:latin typeface="Arial"/>
              </a:rPr>
              <a:t>Splenic arter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250560" y="1267920"/>
            <a:ext cx="871380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t passes transversely to the left behind stoma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ong upper border of pancreas. -  It has a tortuous cours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t’s accompanied by splenic vein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t passes In front of left suprarenal gland and left kidney where it passes between two layers of lienorenal ligament to reach the hilum of sple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9" name="Picture 4" descr="ant  splen"/>
          <p:cNvPicPr/>
          <p:nvPr/>
        </p:nvPicPr>
        <p:blipFill>
          <a:blip r:embed="rId1"/>
          <a:stretch/>
        </p:blipFill>
        <p:spPr>
          <a:xfrm>
            <a:off x="1476360" y="3645000"/>
            <a:ext cx="6120000" cy="295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14716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Branches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:</a:t>
            </a:r>
            <a:br>
              <a:rPr sz="4400"/>
            </a:b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250920" y="907560"/>
            <a:ext cx="367344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1-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Pancreatic branches:</a:t>
            </a: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 su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ply pancrea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2-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Short gastric arteri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to upper part of greater curvature of the stomach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3-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Left gastroepiploic artery:</a:t>
            </a: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passes between two layers of greater omentum along the greater curvature of stomach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2" name="Picture 4" descr="branches splen"/>
          <p:cNvPicPr/>
          <p:nvPr/>
        </p:nvPicPr>
        <p:blipFill>
          <a:blip r:embed="rId1"/>
          <a:stretch/>
        </p:blipFill>
        <p:spPr>
          <a:xfrm>
            <a:off x="3995640" y="1557360"/>
            <a:ext cx="4897440" cy="5010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60280"/>
            <a:ext cx="8229600" cy="30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t is the shortest, widest and most fixed part of the small intestine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Position and Shap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xed to the posterior abdominal wall (retroperitoneal), occupies the epigastric and umbilical regi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llows a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haped course around the head of the pancre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tends from the pylorus to the duodeno-jejunal flexur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5" name="Picture 4" descr=""/>
          <p:cNvPicPr/>
          <p:nvPr/>
        </p:nvPicPr>
        <p:blipFill>
          <a:blip r:embed="rId1"/>
          <a:stretch/>
        </p:blipFill>
        <p:spPr>
          <a:xfrm>
            <a:off x="826920" y="3213000"/>
            <a:ext cx="7632720" cy="34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ff99"/>
                </a:solidFill>
                <a:latin typeface="Arial"/>
              </a:rPr>
              <a:t>Termination</a:t>
            </a:r>
            <a:r>
              <a:rPr b="0" lang="en-US" sz="4400" spc="-1" strike="noStrike">
                <a:solidFill>
                  <a:srgbClr val="99ff99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460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terminates by dividing into 5 or 6 splenic arteries which enter the hilum of spleen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5" name="Picture 4" descr="termi    splen"/>
          <p:cNvPicPr/>
          <p:nvPr/>
        </p:nvPicPr>
        <p:blipFill>
          <a:blip r:embed="rId1"/>
          <a:stretch/>
        </p:blipFill>
        <p:spPr>
          <a:xfrm>
            <a:off x="3276720" y="2565360"/>
            <a:ext cx="4824360" cy="403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Title 1" descr=""/>
          <p:cNvPicPr/>
          <p:nvPr/>
        </p:nvPicPr>
        <p:blipFill>
          <a:blip r:embed="rId1"/>
          <a:stretch/>
        </p:blipFill>
        <p:spPr>
          <a:xfrm>
            <a:off x="133200" y="1603440"/>
            <a:ext cx="8529840" cy="2755800"/>
          </a:xfrm>
          <a:prstGeom prst="rect">
            <a:avLst/>
          </a:prstGeom>
          <a:ln w="0">
            <a:noFill/>
          </a:ln>
        </p:spPr>
      </p:pic>
      <p:sp>
        <p:nvSpPr>
          <p:cNvPr id="267" name="TextBox 2"/>
          <p:cNvSpPr/>
          <p:nvPr/>
        </p:nvSpPr>
        <p:spPr>
          <a:xfrm>
            <a:off x="285840" y="4429080"/>
            <a:ext cx="8072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Brush Script MT"/>
              </a:rPr>
              <a:t> </a:t>
            </a:r>
            <a:r>
              <a:rPr b="0" lang="en-US" sz="4400" spc="-1" strike="noStrike">
                <a:solidFill>
                  <a:srgbClr val="ff0000"/>
                </a:solidFill>
                <a:latin typeface="Brush Script MT"/>
              </a:rPr>
              <a:t>Prof.: Dr. Shawky Taye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50920" y="188640"/>
            <a:ext cx="820872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Parts of the duodenum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1. First part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-  2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ches long, its 1st inch is mobile as it is covered by peritoneum ant. and post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t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begin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t the pylorus, 1/2 an inch to the right of the median plane at the level of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1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transpyloric plane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79280" y="260280"/>
            <a:ext cx="28800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Relations of 1</a:t>
            </a:r>
            <a:r>
              <a:rPr b="1" lang="en-US" sz="3200" spc="-1" strike="noStrike" baseline="30000">
                <a:solidFill>
                  <a:srgbClr val="ff3300"/>
                </a:solidFill>
                <a:latin typeface="Arial"/>
              </a:rPr>
              <a:t>st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 part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Anteriorly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quadrate lobe of the liver and gallbladd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Posteriorly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- Neck of the pancreas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Portal vein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bile du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0" name="Picture 4" descr="Blood Supply of duodenum"/>
          <p:cNvPicPr/>
          <p:nvPr/>
        </p:nvPicPr>
        <p:blipFill>
          <a:blip r:embed="rId1"/>
          <a:stretch/>
        </p:blipFill>
        <p:spPr>
          <a:xfrm>
            <a:off x="3276720" y="1268280"/>
            <a:ext cx="568800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13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Inferiorly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head of pancrea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uperiorly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related to epiploic forame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2" name="Picture 2" descr="C:\Documents and Settings\Main\Desktop\liver\liver-gallbladder01.jpg"/>
          <p:cNvPicPr/>
          <p:nvPr/>
        </p:nvPicPr>
        <p:blipFill>
          <a:blip r:embed="rId1"/>
          <a:stretch/>
        </p:blipFill>
        <p:spPr>
          <a:xfrm>
            <a:off x="1547640" y="1844640"/>
            <a:ext cx="6048720" cy="47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333000"/>
            <a:ext cx="8229600" cy="30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2. Second part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3 inches long and descends vertically from the level of L1 to L3. Covered by peritoneum ant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lation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Anterior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right lobe of the liver, gall bladder, transverse colon and coils of jejunu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Posterior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hilum of the right kidne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teral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hepatic flexure of the large intestin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Medial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ad of pancreas, bile duct and pancreatico –duodenal arteri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5" name="Picture 4" descr=""/>
          <p:cNvPicPr/>
          <p:nvPr/>
        </p:nvPicPr>
        <p:blipFill>
          <a:blip r:embed="rId1"/>
          <a:stretch/>
        </p:blipFill>
        <p:spPr>
          <a:xfrm>
            <a:off x="971640" y="3284640"/>
            <a:ext cx="720072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78920" y="260280"/>
            <a:ext cx="403236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3. Third part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 inch long, lies horizontally opposite to the level of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L3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lation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Anterior: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perior mesenteric vessels and coils of small intestin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Posterior: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t is related to the following structures from the right to the left side: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ight ureter, right psoas major, right. gonadal vessels, IVC, aorta and inferior mesenteric arter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Superior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head of pancre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Inferior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coils of small intestin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8" name="Picture 4" descr="Blood Supply of duodenum"/>
          <p:cNvPicPr/>
          <p:nvPr/>
        </p:nvPicPr>
        <p:blipFill>
          <a:blip r:embed="rId1"/>
          <a:stretch/>
        </p:blipFill>
        <p:spPr>
          <a:xfrm>
            <a:off x="3924360" y="1268280"/>
            <a:ext cx="504036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539640" y="26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4. Fourth part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 It is one inch long. It ascends from the level of L3 to L2 one inch to the left of median plane at the dudeno-jejunal flexur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1" name="Picture 4" descr=""/>
          <p:cNvPicPr/>
          <p:nvPr/>
        </p:nvPicPr>
        <p:blipFill>
          <a:blip r:embed="rId1"/>
          <a:stretch/>
        </p:blipFill>
        <p:spPr>
          <a:xfrm>
            <a:off x="826920" y="3213000"/>
            <a:ext cx="7632720" cy="34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21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Relations of the 4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th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part of the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duodenum: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99"/>
                </a:solidFill>
                <a:latin typeface="Arial"/>
              </a:rPr>
              <a:t>Anterio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nsverse colon and transverse mesocol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3" name="Picture 4" descr=""/>
          <p:cNvPicPr/>
          <p:nvPr/>
        </p:nvPicPr>
        <p:blipFill>
          <a:blip r:embed="rId1"/>
          <a:stretch/>
        </p:blipFill>
        <p:spPr>
          <a:xfrm>
            <a:off x="468360" y="2492280"/>
            <a:ext cx="813600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05T09:26:08Z</dcterms:created>
  <dc:creator>Prof. Dr. Shawky</dc:creator>
  <dc:description/>
  <dc:language>en-US</dc:language>
  <cp:lastModifiedBy>Safa Osman</cp:lastModifiedBy>
  <dcterms:modified xsi:type="dcterms:W3CDTF">2016-02-22T12:50:04Z</dcterms:modified>
  <cp:revision>10</cp:revision>
  <dc:subject/>
  <dc:title>Duodenum</dc:title>
</cp:coreProperties>
</file>